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6BF-FD73-419B-AD72-F70B5650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137-82D9-4D60-BF40-7FBBBF97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EC7-4817-440A-A2D6-2C544D33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DF1-DD05-4A5A-BA02-5B333715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8DD-EF6C-495D-A08B-AD026E39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B5A-BC52-4AC9-96CF-9FD89095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2CA-77F6-4D3B-BFCB-1347B42A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A9F-9875-4A31-9B0A-7C4A907F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A95-9773-443A-B011-7A23EE67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EBF-D014-4BC5-A3DD-C216781F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393-2CE0-4380-B782-A7A72690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83A-E1DD-44FD-81A8-163D6832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3588-F1B0-47DE-BD6D-0A79DF0A8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14480" y="3076560"/>
            <a:ext cx="3515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siunea iunie-iuli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8T11:23:36Z</dcterms:modified>
  <cp:revision>38</cp:revision>
  <dc:subject/>
  <dc:title>SALARIUL</dc:title>
</cp:coreProperties>
</file>